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2CB-3105-4CB5-9E1C-9167E38B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42F-8422-4CEF-9A04-20440F15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9A7-0C64-49FC-A853-2CFBE58F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D65-E2A2-424E-94F7-071A9754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DDC-E438-42A4-B07F-E3CC38C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0CE-0F7C-4F64-BEE8-1A83CBFA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CC6-1149-4F00-A1F4-F92336D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764-8967-4D56-9F0E-D4F6978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6F9-54DD-4DA6-9BAE-D500E27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352-A841-43E0-9591-A49579B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380-7AB9-4D28-B533-9882100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E80-638C-4B0E-832A-EF805504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E34-BCB9-4BBA-8F5C-F7CE56A01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685800"/>
          <a:ext cx="6859440" cy="54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85944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Qué es Fressa 2005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81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¨La informática como todo el mundo. Como todo el mundo con la informática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53352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3276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junto de programas informáticos cuyo objetivo es ayudar a personas con dificult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Dónde conseguir los program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62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ww.lagares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53352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6:11:31Z</dcterms:created>
  <dc:creator>jordi</dc:creator>
  <dc:description/>
  <dc:language>en-US</dc:language>
  <cp:lastModifiedBy>Jordi Lagares Roset</cp:lastModifiedBy>
  <dcterms:modified xsi:type="dcterms:W3CDTF">2005-05-16T21:16:45Z</dcterms:modified>
  <cp:revision>4</cp:revision>
  <dc:subject/>
  <dc:title>Presentación de PowerPoint</dc:title>
</cp:coreProperties>
</file>